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130-40CD-4354-83A8-9A0F90C3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E9E-488D-40C4-B69E-34E4EA4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3F0-FA4B-443A-AAB6-6A3D49D8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2A0-59C8-40FC-8518-5A8A57E4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4BB-DE2C-4B54-BBE9-E8D3730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2BF-7E56-4AD4-857E-06C7984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0AF-102B-40EE-AF94-C43F063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025-91D7-4AA4-9888-4519D235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16D-32D3-4050-B2F5-97315D57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4DD-7A0A-4E0A-A320-2D7749E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F15-E60E-4419-AE80-13F27C2F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80A-38EF-4002-8508-4815113F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9ED-6ACE-4353-AB93-26AF320CF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OW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ttnei Joh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ima Don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2011-Grammys-Nicki-Minaj-in-givenchy-570x450.jpg"/>
          <p:cNvPicPr/>
          <p:nvPr/>
        </p:nvPicPr>
        <p:blipFill>
          <a:blip r:embed="rId1"/>
          <a:stretch/>
        </p:blipFill>
        <p:spPr>
          <a:xfrm>
            <a:off x="3575160" y="1181160"/>
            <a:ext cx="5111640" cy="4037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Nicki Minaj is a prima donna with her extraordinary outfits. Nicki’s designer once made her dress pink when it should’ve been cheetah, and she through a temper tantrum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2:08:08Z</dcterms:created>
  <dc:creator>Student1</dc:creator>
  <dc:description/>
  <dc:language>en-US</dc:language>
  <cp:lastModifiedBy>Student1</cp:lastModifiedBy>
  <dcterms:modified xsi:type="dcterms:W3CDTF">2012-05-21T12:26:01Z</dcterms:modified>
  <cp:revision>1</cp:revision>
  <dc:subject/>
  <dc:title>Vocabulary WOW Words</dc:title>
</cp:coreProperties>
</file>